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65FA-D91E-42CF-A997-3C431FE20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D650-BAC1-411D-8E0A-79CE558C2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8C7A-9092-4D3C-AA54-28AC1CEF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4F9C-B5D2-46B7-B395-D996A6915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9F6F-E7F3-42F0-BF6B-84B765B20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CCA6-AD31-4225-91CA-1B86B1790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DFB1-8BF6-4757-82E6-22E6B3441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10D1-1962-4422-BFE9-65DED16F1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70D-A521-4635-A6A6-2066CDD0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8EE-1E31-4BE4-9DBD-64F268E6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BAC-AF5C-4A98-8F24-04C85CCF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9CA-4F75-47B5-9AD4-39EDC67B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A3E-6DBF-46EF-A15E-29F9608F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B24-2467-4B54-ADBB-BBD8F240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40D-A2FC-443D-9A8E-602F7C0B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C1D-2E0C-49C7-812E-5FFA162B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A15-E175-43CC-8E1B-E68F883C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925-8950-4624-A6C3-AD4FC26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B3C-AD16-4BB1-898F-0E09842C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C23-309A-4674-B30E-97CABD4A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D50C-13BD-46DF-84F7-8F8CF5D6CF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elationship between agricultural biodiversity and dietary diversity of children aged 6-36 months in rural areas of Northern Ghan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DS, 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action term was statistically significant [β = -0.16 (95% CI: -0.21, -0.004, p = 0.042)] and this confirms that the relationship between production diversity and dietary diversity scores differs according to the socioeconomic status of the child’s househ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from households of high wealth index had mean dietary diversity score which was 0.06 standard units significantly higher than their counterparts from households of lower wealth index [β = 0.06 (95% CI: 0.04, 0.51)]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udy provided evidence that increased agricultural biodiversity positively associated with dietary diversity of preschool children but this relationship was moderated by socioeconomic status of the child’s household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refore recommended that the Ministry of Agriculture and related organizations should take steps to train/educate rural farmers on agricultural biodiversity especially the poor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a positive relationship between biodiversity and nutrition appears to be evident from a number of studies, more research is needed to better understand in which socio-ecological settings and contexts do biodiversity and nutritional and dietary outcomes relate and which factors mediate the relationsh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aper investigated whether and how biodiversity contributes to diversified diets of children and how economic factors interact with biodiversity to mediate consumption of nutrient dense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per is based on analysis of data which was collected in a base-line cross-sectional survey from 50 communities located in five districts of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population comprised mothers/primary caregivers and their children who were selected using a two-stage cluster sampling proced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ary diversity was derived from a semi-quantitative 24-hour food reca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crop and livestock species produced on a farm was used as the measure of production diver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regression analysis was used to identify predictors and test for interac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ion analyses were used to assess whether socioeconomic status of the household mediates the link between agricultural biodiversity and dietary diversity of child’ d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br>
              <a:rPr sz="36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positive relationship between agricultural biodiversity (variety of animals kept and plants grown for food) and the diversity of child’s di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children (24-36 months), high agricultural biodiversity, small household size and households of higher household wealth index were consistent predict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ongest predictor was child’s age with a standardized beta (β) weight of 0.45, p &lt; 0.001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cond highest contributor was production diversity with beta (β) weight of 0.25, p = 0.00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oeconomic status of the household did not mediate the link between agricultural biodiversity and dietary diversity of child’ diet. Rather, it interacted with agricultural biodiversity on dietary diversity of chi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53Z</dcterms:modified>
  <cp:revision>1464</cp:revision>
  <dc:subject/>
  <dc:title>Gastroenteritis at a University in Texas</dc:title>
</cp:coreProperties>
</file>